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377-4367-49CF-8F54-12B171C1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A5C-4C87-4DB2-842C-E2C62229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FC9-C2DA-4DBA-98B7-BB2F52C6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706-2E9C-4F75-9148-D4E935DD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A9E-C5D5-4167-AC4F-D77B8491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032-66F1-4955-9302-DD0D14CA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802-B5E9-47A0-A0BD-E92A0437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85D-1441-4FAC-A540-00A75F8B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5DA-986E-4560-ABC7-A2308433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AF9-1E5E-4BC8-BF02-D661BC6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428-B9B4-4E6C-8DB4-60A9CC1E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115-7F42-4D81-BC87-D3BF4910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fld id="{B200720C-A8F1-427A-B67E-DC46945371F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Πληροφορημένη αναζήτηση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και εξερεύνη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αζήτηση Α*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3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56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99F-DD89-43C9-8CAF-ACA06E4AD7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υνεπεί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υρετικές συναρτήσει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ια ευρετική συνάρτηση λέγεται συνεπή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ή μονοτονική, εάν ισχύε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)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αναζήτησ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με κλάδεμα επαναλαμβανόμενων καταστάσεων, χωρίς να λαμβάνεται υπόψη εάν η νέα κατάσταση έχει μικρότερη τιμή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ό την παλιά, είναι βέλτιστη αν 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 είναι συνεπή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ια συνεπής ευρετική συνάρτηση είναι και παραδεκτ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περισσότερες παραδεκτές ευρετικές συναρτήσεις είναι και συνεπείς (π.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B8A-511A-45D9-B8F2-6E8CDF5DBE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Ισοϋψείς καμπύλ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 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 είναι συνεπής, τότε οι τιμές τ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 πάνω σε οποιαδήποτε διαδρομή είναι μη φθίνουσε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Ισοϋψείς καμπύλ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24852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CD8-AD3A-4235-AFAA-E6659A06E5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ποδοτικότητα Α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Βέλτιστος και πλήρ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Βέλτιστα αποδοτικός: Εξερευνά τις λιγότερες καταστάσεις από όλους τους βέλτιστους και πλήρεις αλγορίθμου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Μεγάλες (εκθετικές) απαιτήσεις σε χρόνο και (κυρίως) σε μνήμ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BDD-C04B-4F5F-8529-3F4CD46942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αράδειγμα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η-Παραδεκτή Συνάρτ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200" y="1752480"/>
            <a:ext cx="7974000" cy="2819520"/>
            <a:chOff x="610200" y="1752480"/>
            <a:chExt cx="7974000" cy="2819520"/>
          </a:xfrm>
        </p:grpSpPr>
        <p:sp>
          <p:nvSpPr>
            <p:cNvPr id="75" name=""/>
            <p:cNvSpPr/>
            <p:nvPr/>
          </p:nvSpPr>
          <p:spPr>
            <a:xfrm>
              <a:off x="1090440" y="2590560"/>
              <a:ext cx="127152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=0+4=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1752480"/>
              <a:ext cx="12952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=4+2=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75120" y="3429000"/>
              <a:ext cx="1206360" cy="1143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=3+5=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85000" y="2590560"/>
              <a:ext cx="1573200" cy="129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1=7+0=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2=6+0=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"/>
            <p:cNvCxnSpPr>
              <a:stCxn id="75" idx="5"/>
              <a:endCxn id="77" idx="2"/>
            </p:cNvCxnSpPr>
            <p:nvPr/>
          </p:nvCxnSpPr>
          <p:spPr>
            <a:xfrm>
              <a:off x="2175840" y="3502080"/>
              <a:ext cx="1799640" cy="49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0" name=""/>
            <p:cNvCxnSpPr>
              <a:stCxn id="75" idx="7"/>
              <a:endCxn id="76" idx="2"/>
            </p:cNvCxnSpPr>
            <p:nvPr/>
          </p:nvCxnSpPr>
          <p:spPr>
            <a:xfrm flipV="1">
              <a:off x="2176200" y="2285640"/>
              <a:ext cx="1634400" cy="46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1" name=""/>
            <p:cNvCxnSpPr>
              <a:stCxn id="76" idx="6"/>
              <a:endCxn id="78" idx="1"/>
            </p:cNvCxnSpPr>
            <p:nvPr/>
          </p:nvCxnSpPr>
          <p:spPr>
            <a:xfrm>
              <a:off x="5104800" y="2285640"/>
              <a:ext cx="2010600" cy="49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" name=""/>
            <p:cNvCxnSpPr>
              <a:stCxn id="77" idx="6"/>
              <a:endCxn id="78" idx="3"/>
            </p:cNvCxnSpPr>
            <p:nvPr/>
          </p:nvCxnSpPr>
          <p:spPr>
            <a:xfrm flipV="1">
              <a:off x="5181120" y="3696840"/>
              <a:ext cx="1934280" cy="30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83" name=""/>
            <p:cNvSpPr/>
            <p:nvPr/>
          </p:nvSpPr>
          <p:spPr>
            <a:xfrm>
              <a:off x="2896920" y="213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560" y="220968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6920" y="3352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504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0200" y="358128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Αρχική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440" y="380988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Τελικ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5840" y="25146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54680" y="3200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30640" y="190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54720" y="243828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3" name=""/>
          <p:cNvGraphicFramePr/>
          <p:nvPr/>
        </p:nvGraphicFramePr>
        <p:xfrm>
          <a:off x="0" y="4952880"/>
          <a:ext cx="9143640" cy="1904760"/>
        </p:xfrm>
        <a:graphic>
          <a:graphicData uri="http://schemas.openxmlformats.org/drawingml/2006/table">
            <a:tbl>
              <a:tblPr/>
              <a:tblGrid>
                <a:gridCol w="3301920"/>
                <a:gridCol w="1694160"/>
                <a:gridCol w="1948680"/>
                <a:gridCol w="2198880"/>
              </a:tblGrid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έτωπο αναζήτηση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λειστό σύνολ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Τρέχουσα κατάστασ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αιδι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ΑΓ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ΑΓ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Δ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Δ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ΑΓ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, Α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Δ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ύσ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CE8-DE70-4A08-8225-EDF073A0EB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αράδειγμα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αραδεκτή Συνάρτ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10200" y="1600200"/>
            <a:ext cx="7974000" cy="2819520"/>
            <a:chOff x="610200" y="1600200"/>
            <a:chExt cx="7974000" cy="2819520"/>
          </a:xfrm>
        </p:grpSpPr>
        <p:sp>
          <p:nvSpPr>
            <p:cNvPr id="96" name=""/>
            <p:cNvSpPr/>
            <p:nvPr/>
          </p:nvSpPr>
          <p:spPr>
            <a:xfrm>
              <a:off x="1090440" y="2438280"/>
              <a:ext cx="127152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=0+4=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9880" y="1600200"/>
              <a:ext cx="12952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=4+2=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75120" y="3276720"/>
              <a:ext cx="1206360" cy="1143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=3+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85000" y="2438280"/>
              <a:ext cx="1573200" cy="129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1=7+0=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2=6+0=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96" idx="5"/>
              <a:endCxn id="98" idx="2"/>
            </p:cNvCxnSpPr>
            <p:nvPr/>
          </p:nvCxnSpPr>
          <p:spPr>
            <a:xfrm>
              <a:off x="2175840" y="3349800"/>
              <a:ext cx="1799640" cy="49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01" name=""/>
            <p:cNvCxnSpPr>
              <a:stCxn id="96" idx="7"/>
              <a:endCxn id="97" idx="2"/>
            </p:cNvCxnSpPr>
            <p:nvPr/>
          </p:nvCxnSpPr>
          <p:spPr>
            <a:xfrm flipV="1">
              <a:off x="2176200" y="2133360"/>
              <a:ext cx="1634400" cy="46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02" name=""/>
            <p:cNvCxnSpPr>
              <a:stCxn id="97" idx="6"/>
              <a:endCxn id="99" idx="1"/>
            </p:cNvCxnSpPr>
            <p:nvPr/>
          </p:nvCxnSpPr>
          <p:spPr>
            <a:xfrm>
              <a:off x="5104800" y="2133360"/>
              <a:ext cx="2010600" cy="49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03" name=""/>
            <p:cNvCxnSpPr>
              <a:stCxn id="98" idx="6"/>
              <a:endCxn id="99" idx="3"/>
            </p:cNvCxnSpPr>
            <p:nvPr/>
          </p:nvCxnSpPr>
          <p:spPr>
            <a:xfrm flipV="1">
              <a:off x="5181120" y="3544560"/>
              <a:ext cx="1934280" cy="30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04" name=""/>
            <p:cNvSpPr/>
            <p:nvPr/>
          </p:nvSpPr>
          <p:spPr>
            <a:xfrm>
              <a:off x="2896920" y="1981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560" y="205740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6920" y="3200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5040" y="3352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0200" y="342900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Αρχική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96440" y="3657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Τελικ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5840" y="2362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54680" y="3048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30640" y="17524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54720" y="22860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4" name=""/>
          <p:cNvGraphicFramePr/>
          <p:nvPr/>
        </p:nvGraphicFramePr>
        <p:xfrm>
          <a:off x="0" y="4576680"/>
          <a:ext cx="9144000" cy="2281320"/>
        </p:xfrm>
        <a:graphic>
          <a:graphicData uri="http://schemas.openxmlformats.org/drawingml/2006/table">
            <a:tbl>
              <a:tblPr/>
              <a:tblGrid>
                <a:gridCol w="3301920"/>
                <a:gridCol w="1693800"/>
                <a:gridCol w="1949760"/>
                <a:gridCol w="219852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έτωπο αναζήτηση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λειστό σύνολ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Τρέχουσα κατάστασ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αιδι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ΑΓ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ΑΓ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Δ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Γ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ΑΒΔ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, Α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Γ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ΓΔ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ΓΔ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ΑΒΔ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, ΑΓ, Α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ΓΔ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ύσ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7DC-5512-4094-9127-DE5297F448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αράδειγμα: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ύγκρι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F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0200" y="1600200"/>
            <a:ext cx="7974000" cy="2819520"/>
            <a:chOff x="610200" y="1600200"/>
            <a:chExt cx="7974000" cy="2819520"/>
          </a:xfrm>
        </p:grpSpPr>
        <p:sp>
          <p:nvSpPr>
            <p:cNvPr id="117" name=""/>
            <p:cNvSpPr/>
            <p:nvPr/>
          </p:nvSpPr>
          <p:spPr>
            <a:xfrm>
              <a:off x="1090440" y="2438280"/>
              <a:ext cx="127152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1600200"/>
              <a:ext cx="12952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75120" y="3276720"/>
              <a:ext cx="1206360" cy="1143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85000" y="2438280"/>
              <a:ext cx="1573200" cy="129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7" idx="5"/>
              <a:endCxn id="119" idx="2"/>
            </p:cNvCxnSpPr>
            <p:nvPr/>
          </p:nvCxnSpPr>
          <p:spPr>
            <a:xfrm>
              <a:off x="2175840" y="3349800"/>
              <a:ext cx="1799640" cy="49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2" name=""/>
            <p:cNvCxnSpPr>
              <a:stCxn id="117" idx="7"/>
              <a:endCxn id="118" idx="2"/>
            </p:cNvCxnSpPr>
            <p:nvPr/>
          </p:nvCxnSpPr>
          <p:spPr>
            <a:xfrm flipV="1">
              <a:off x="2176200" y="2133360"/>
              <a:ext cx="1634400" cy="46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3" name=""/>
            <p:cNvCxnSpPr>
              <a:stCxn id="118" idx="6"/>
              <a:endCxn id="120" idx="1"/>
            </p:cNvCxnSpPr>
            <p:nvPr/>
          </p:nvCxnSpPr>
          <p:spPr>
            <a:xfrm>
              <a:off x="5104800" y="2133360"/>
              <a:ext cx="2010600" cy="49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4" name=""/>
            <p:cNvCxnSpPr>
              <a:stCxn id="119" idx="6"/>
              <a:endCxn id="120" idx="3"/>
            </p:cNvCxnSpPr>
            <p:nvPr/>
          </p:nvCxnSpPr>
          <p:spPr>
            <a:xfrm flipV="1">
              <a:off x="5181120" y="3544560"/>
              <a:ext cx="1934280" cy="30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25" name=""/>
            <p:cNvSpPr/>
            <p:nvPr/>
          </p:nvSpPr>
          <p:spPr>
            <a:xfrm>
              <a:off x="2896920" y="1981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560" y="205740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96920" y="3200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45040" y="3352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0200" y="342900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Αρχική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96440" y="3657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Τελικ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5840" y="2362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54680" y="3048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30640" y="17524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54720" y="22860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0" y="4952880"/>
          <a:ext cx="9143640" cy="1904760"/>
        </p:xfrm>
        <a:graphic>
          <a:graphicData uri="http://schemas.openxmlformats.org/drawingml/2006/table">
            <a:tbl>
              <a:tblPr/>
              <a:tblGrid>
                <a:gridCol w="3301920"/>
                <a:gridCol w="1694160"/>
                <a:gridCol w="1948680"/>
                <a:gridCol w="2198880"/>
              </a:tblGrid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έτωπο αναζήτηση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λειστό σύνολ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Τρέχουσα κατάστασ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αιδι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, Α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, Α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Δ, Α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, Α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Β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ύσ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-38880" y="45720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ύση στο προηγούμενο παράδειγμα με χρήσ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F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F16-7C71-451E-853D-77575D79D7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υρετική αναζήτηση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εριορισμένης μνήμ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* με επαναληπτική εκβάθυν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ive Deepening A* (IDA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έκταση των κλαδιών πρώτα κατά βάθο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ριο αποκοπής στη συνάρτησ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 = g(n)+h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 δεν βρεθεί λύση σε κάποιο κόστος, αυξάνεται το όριο αποκοπής στο κόστος του «φθηνότερου» κόμβου που κλαδεύτηκ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ανιχνεύει επαναλαμβανόμενες καταστάσει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204-BE0F-48B7-B255-573CE19F03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αδρομική αναζήτηση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ώτα στο καλύτερ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best-first search (RB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θε κόμβο που επιλέγει να επεκτείνει, θυμάται την καλύτερη τιμή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ων γειτονικών του κόμβ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άν δεν υπάρχει παιδί με τιμή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λύτερη του βέλτιστου γειτονικού κόμβου, η αναζήτηση συνεχίζει από τον βέλτιστο γειτονικό, ενημερώνοντας τον τρέχοντα κόμβο με την τιμή του καλύτερου παιδιού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ραμμικές απαιτήσεις σε μνήμ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ανιχνεύει επαναλαμβανόμενες καταστάσει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FF6-B281-4FD6-972B-ACD8DD52E7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τρατηγικές πληροφορημένης αναζήτ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ληροφορημένη αναζήτησ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formed sea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νάρτηση αξιολόγηση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valuation function)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τιμώνται οι μικρότερες τιμ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ρετική συνάρτησ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euristic function)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νήθως εκτίμηση απόστασης από στόχ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FAF-7A3B-4E3A-99B0-F5F81E087C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αδρομική αναζήτηση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ώτα στο καλύτερ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001000" cy="53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A2C-DCDC-43A4-A673-3E2B7ED5E9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αδρομική αναζήτηση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ώτα στο καλύτερ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4F7-14EA-4795-A5A1-348F68354A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πλουστευμένος Α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εριορισμένης μνήμ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memory-bounded A* (SMA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Ίδιος καταρχήν με με τον Α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ταν γεμίσει η μνήμη, για κάθε νέο κόμβο διαγράφει έναν παλι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γράφει πάντα τον κόμβο με το χειρότερ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κόμβος αυτός θα είναι πάντα ένας κόμβος-φύλλο, μιας και για συνεπείς ευρετικούς μηχανισμούς τα παιδιά έχουν πάντα μεγαλύτερη τιμή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ό τους γονεί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ε περίπτωση ισοβαθμίας, διαγράφεται ο παλαιότερος κόμβο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τιμή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υ κόμβου που διαγράφηκε διατηρείται στον γονικό κόμβ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λήρης αλγόριθμος, εκτός και αν η βέλτιστη λύση δεν χωρά στη μνήμ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3CA-3406-4774-B78A-D9B4CF25D2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Ευρετικές συναρτήσει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Παζλ των 8 πλακιδί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= ο αριθμός των πλακιδίων που δεν είναι στη θέση του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= το άθροισμα των αποστάσεων των πλακιδίων από τις θέσεις προορισμού του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όστασ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hat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δεκτές και οι δύ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υριαρχεί τ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χωρίς να υπερεκτιμά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εκτείνει λιγότερους κόμβ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4959360" cy="2562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7600" y="1676520"/>
            <a:ext cx="7963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*=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5CB-F40C-47CC-8899-FAA3D21D07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Δραστικός παράγοντας διακλάδω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+ 1 = 1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 +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2286000"/>
          <a:ext cx="8686800" cy="4537080"/>
        </p:xfrm>
        <a:graphic>
          <a:graphicData uri="http://schemas.openxmlformats.org/drawingml/2006/table">
            <a:tbl>
              <a:tblPr/>
              <a:tblGrid>
                <a:gridCol w="563400"/>
                <a:gridCol w="1352880"/>
                <a:gridCol w="1355400"/>
                <a:gridCol w="1351080"/>
                <a:gridCol w="1355760"/>
                <a:gridCol w="1352520"/>
                <a:gridCol w="1355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όστος αναζήτηση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ραστικός παράγοντας διακλάδωση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l-GR" sz="1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l-GR" sz="1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l-GR" sz="1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l-GR" sz="1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44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243-4005-497E-92B5-D1A78CBD7F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ινόηση παραδεκτών μηχανισμώ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Χαλαρά προβλήμα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Χαλαρά προβλήματα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xed problems)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λοποίηση των κανόνων του προβλήματο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κόστος μιας βέλτιστης λύσης για ένα χαλαρό πρόβλημα είναι ένας παραδεκτός ευρετικός μηχανισμός για το αρχικό πρόβλημ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νόνα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να πλακίδιο μπορεί να μετακινηθεί από το τετράγων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τετράγων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ν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νορεύει οριζόντια ή κάθετα με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ίναι κεν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αλαροί κανόνε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να πλακίδιο μπορεί να μετακινηθεί από το τετράγων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τετράγων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ν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νορεύει με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να πλακίδιο μπορεί να μετακινηθεί από το τετράγων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τετράγων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ν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ίναι κεν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να πλακίδιο μπορεί να μετακινηθεί από το τετράγων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τετράγων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C93-2B9E-4C7A-8C2A-61B307A7EB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ινόηση παραδεκτών μηχανισμώ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Υποπροβλήμα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άσεις δεδομένων προτύπων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n data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οθήκευση λύσεων υποπροβλημάτ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άσεις δεδομένων ξένων προτύπω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isjoint pattern data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εχωριστές βάσεις δεδομένων, πρόσθεση των εκτιμήσεών τους, αφαίρεση (πλήρης) των κοινών κινήσε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267080" cy="21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2DE-B8B0-4884-B0DC-C7CDB3E4F8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λγόριθμοι τοπικής αναζήτηση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και προβλήματα βελτιστοποίη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Τοπική αναζήτη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ροβλήματα βελτιστοποίησης, αντικειμενική συνάρτ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Τοπίο χώρου καταστάσεω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8153280" cy="401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EFD-807A-4127-BA10-DAB6AF648D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ναζήτηση πρώτα στο καλύτερ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=h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traight-Line Distance heuristic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θύγραμμη απόστασ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467840" cy="44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5FC-A4CF-4DD2-80FD-E99E847264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ναρρίχηση λόφ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Μετακινείται συνεχώς στην καλύτερη γειτονική κατάστα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υνήθως διατύπωση με πλήρεις καταστά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086600" cy="3737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104440" y="6172200"/>
            <a:ext cx="27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οπικό ελάχιστο μ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360" y="617220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ρέχουσα τιμ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BF7-711A-4B0E-8C0F-F030E2D68F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Παράδειγμα με 4 βασίλισσες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θε στήλη θα υπάρχει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ία μόνο βασίλισσ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εκινάμε με όλες τις βασίλισσες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ν κάτω γραμμ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θε βήμα μπορούμε να μετακινήσουμε μια βασίλισσα σέ μια άλλη θέση στη στήλη της, άρα οι δυνατές κινήσεις είναι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3=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Χρησιμοποιούμε ως ευρετική συνάρτηση το πόσες απειλές υπάρχουν κάθε φορά (όλες οι απειλές είναι διπλές, εμείς τις μετράμε ως μία απειλή κάθε φορά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95880" y="1295280"/>
            <a:ext cx="2285640" cy="2285640"/>
            <a:chOff x="6095880" y="1295280"/>
            <a:chExt cx="2285640" cy="2285640"/>
          </a:xfrm>
        </p:grpSpPr>
        <p:sp>
          <p:nvSpPr>
            <p:cNvPr id="177" name=""/>
            <p:cNvSpPr/>
            <p:nvPr/>
          </p:nvSpPr>
          <p:spPr>
            <a:xfrm>
              <a:off x="7810200" y="2438280"/>
              <a:ext cx="571320" cy="5713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300960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38880" y="2438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38880" y="3009600"/>
              <a:ext cx="571320" cy="5713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67200" y="2438280"/>
              <a:ext cx="571680" cy="5713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67200" y="3009600"/>
              <a:ext cx="571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2438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3009600"/>
              <a:ext cx="571320" cy="5713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10200" y="186660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38880" y="1866600"/>
              <a:ext cx="571320" cy="5713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67200" y="1866600"/>
              <a:ext cx="571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5880" y="1866600"/>
              <a:ext cx="571320" cy="5713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10200" y="1295280"/>
              <a:ext cx="571320" cy="5713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38880" y="1295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67200" y="1295280"/>
              <a:ext cx="571680" cy="5713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5880" y="1295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1C4-F34B-4B38-9617-C91296914C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Παράδειγμα με 4 βασίλισσες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8600" y="1523880"/>
            <a:ext cx="2133360" cy="2133360"/>
            <a:chOff x="228600" y="1523880"/>
            <a:chExt cx="2133360" cy="2133360"/>
          </a:xfrm>
        </p:grpSpPr>
        <p:sp>
          <p:nvSpPr>
            <p:cNvPr id="195" name=""/>
            <p:cNvSpPr/>
            <p:nvPr/>
          </p:nvSpPr>
          <p:spPr>
            <a:xfrm>
              <a:off x="1828800" y="259056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800" y="3123720"/>
              <a:ext cx="5331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95640" y="259056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640" y="3123720"/>
              <a:ext cx="53316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1760" y="2590560"/>
              <a:ext cx="53352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1760" y="3123720"/>
              <a:ext cx="53352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" y="259056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3123720"/>
              <a:ext cx="53316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205740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5640" y="205740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1760" y="2057400"/>
              <a:ext cx="5335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205740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1523880"/>
              <a:ext cx="53316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5640" y="1523880"/>
              <a:ext cx="5331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760" y="1523880"/>
              <a:ext cx="53352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" y="1523880"/>
              <a:ext cx="5331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505320" y="1523880"/>
            <a:ext cx="2133000" cy="2133360"/>
            <a:chOff x="3505320" y="1523880"/>
            <a:chExt cx="2133000" cy="2133360"/>
          </a:xfrm>
        </p:grpSpPr>
        <p:sp>
          <p:nvSpPr>
            <p:cNvPr id="212" name=""/>
            <p:cNvSpPr/>
            <p:nvPr/>
          </p:nvSpPr>
          <p:spPr>
            <a:xfrm>
              <a:off x="5105160" y="259056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160" y="3123720"/>
              <a:ext cx="5331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259056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0" y="3123720"/>
              <a:ext cx="53316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38480" y="2590560"/>
              <a:ext cx="53352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38480" y="3123720"/>
              <a:ext cx="53352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05320" y="259056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5320" y="3123720"/>
              <a:ext cx="53316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5160" y="205740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205740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38480" y="2057400"/>
              <a:ext cx="5335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05320" y="205740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5160" y="1523880"/>
              <a:ext cx="53316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0" y="1523880"/>
              <a:ext cx="5331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1523880"/>
              <a:ext cx="53352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5320" y="1523880"/>
              <a:ext cx="5331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781680" y="1523880"/>
            <a:ext cx="2133360" cy="2133360"/>
            <a:chOff x="6781680" y="1523880"/>
            <a:chExt cx="2133360" cy="2133360"/>
          </a:xfrm>
        </p:grpSpPr>
        <p:sp>
          <p:nvSpPr>
            <p:cNvPr id="229" name=""/>
            <p:cNvSpPr/>
            <p:nvPr/>
          </p:nvSpPr>
          <p:spPr>
            <a:xfrm>
              <a:off x="8381880" y="259056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1880" y="3123720"/>
              <a:ext cx="5331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259056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48720" y="3123720"/>
              <a:ext cx="53316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14840" y="2590560"/>
              <a:ext cx="53352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4840" y="3123720"/>
              <a:ext cx="53352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1680" y="259056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1680" y="3123720"/>
              <a:ext cx="53316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1880" y="205740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48720" y="205740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4840" y="2057400"/>
              <a:ext cx="5335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81680" y="205740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1880" y="1523880"/>
              <a:ext cx="53316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1523880"/>
              <a:ext cx="5331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4840" y="1523880"/>
              <a:ext cx="533520" cy="5335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81680" y="1523880"/>
              <a:ext cx="5331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1448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215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742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8600" y="4191120"/>
            <a:ext cx="2133360" cy="2133000"/>
            <a:chOff x="228600" y="4191120"/>
            <a:chExt cx="2133360" cy="2133000"/>
          </a:xfrm>
        </p:grpSpPr>
        <p:sp>
          <p:nvSpPr>
            <p:cNvPr id="249" name=""/>
            <p:cNvSpPr/>
            <p:nvPr/>
          </p:nvSpPr>
          <p:spPr>
            <a:xfrm>
              <a:off x="1828800" y="525780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28800" y="579096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95640" y="525780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95640" y="579096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1760" y="5257800"/>
              <a:ext cx="53352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1760" y="5790960"/>
              <a:ext cx="5335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600" y="525780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" y="579096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28800" y="472428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640" y="472428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760" y="4724280"/>
              <a:ext cx="53352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600" y="472428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4191120"/>
              <a:ext cx="53316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5640" y="419112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1760" y="4191120"/>
              <a:ext cx="533520" cy="533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" y="4191120"/>
              <a:ext cx="5331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144800" y="63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42670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 συγκεκριμένο παράδειγμα είμασταν τυχεροί, μιας και όλες οι επιλογές μας βγήκαν σωστέ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686-A9C1-40A9-96D2-43AA4FE8DD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Προβλήματα αναρρίχησης λόφ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ροβλήματ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Τοπικά μέγισ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Κορυφογραμμ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Οροπέδι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ιμετώπισ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λάγιες κινή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χαστική αναζήτ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ιλέγει τυχαία από τις «καλές» κινή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ναρρίχηση λόφων με την πρώτη επιλογ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υχαίες επανεκκινήσει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πλήρης αλγόριθμο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819520" cy="2359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C03-9900-4133-A441-BEB8F1BE89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ροσομοιωμένη ανόπτηση</a:t>
            </a:r>
            <a:br>
              <a:rPr sz="36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annealing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-επιλέγει τυχαία μια κίνη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 αυτή βελτιώνει τα πράγματα, γίνεται αποδεκτ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 τα χειροτερεύει, γίνεται αποδεκτή με πιθανότη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e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</a:rPr>
              <a:t>ΔΕ/Τ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&lt;0, η χειροτέρευ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&gt;0, «θερμοκρασί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θερμοκρασία μειώνεται με την πάροδο του χρόν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CAA-AFDB-4C51-8F03-21CF1662A1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Τοπική ακτινική αναζήτηση</a:t>
            </a:r>
            <a:br>
              <a:rPr sz="36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beam 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λέγοντα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υχαίες αρχικές καταστάσει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κτελούντα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αζητήσεις παράλληλ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θε βήμα επιλέγονται 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λύτερα παιδιά από όλα τα παιδιά του προηγούμενου βήματο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ίνδυνος συγκέντρωσης όλων των αναζητήσεων γύρω από το ίδιο κλαδ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ιμετώπιση: Στοχαστική επιλογή τω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ιδιώ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811-17C4-4E3D-9DBF-6D0CCBEEE7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Γενετικοί αλγόριθμο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διάδοχες καταστάσεις παράγονται με το συνδυασμό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δύο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γονικών καταστάσεων, και όχι με την τροποποίηση μιας μεμονωμένης κατάστασ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χικός πληθυσμό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χαστική επιλογή γονέ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νάρτηση καταλληλότητας = Ευρετική συνάρτ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8001000" cy="26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D87-7FF3-4260-85D2-098E92093C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Γενετικοί αλγόριθμο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252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AA8-C48B-444E-9808-16226052C8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Τοπική αναζήτηση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σε συνεχείς χώρου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Συνεχείς χώρο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Άπειρος αριθμών διάδοχων καταστάσ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άδειγμα: Τοποθέτηση 3 αεροδρομίων στη Ρουμανία με ελαχιστοποίηση του αθροίσματος των αποστάσεων των πόλε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ώρος 6 διαστά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ικειμενική συνάρτηση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κριτοποίηση, βήμ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239-B962-4B1D-B77E-834AB1EA33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ναζήτηση πρώτα στο καλύτερ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ιμέ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απόσταση από Βουκουρέστ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2209680"/>
          <a:ext cx="7391160" cy="4556160"/>
        </p:xfrm>
        <a:graphic>
          <a:graphicData uri="http://schemas.openxmlformats.org/drawingml/2006/table">
            <a:tbl>
              <a:tblPr/>
              <a:tblGrid>
                <a:gridCol w="1681560"/>
                <a:gridCol w="1195560"/>
                <a:gridCol w="1432800"/>
                <a:gridCol w="1850760"/>
                <a:gridCol w="123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ha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char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am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io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d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br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te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or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mniscu Vilc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gar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bi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urgi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isoa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rso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zic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a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slu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go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rin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2C4-4AD2-4D52-B3D4-EA63B3D349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λέον απότομη ανάβαση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eapest-ascent hill climb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λίσ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λέον απότομη ανάβασ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μπειρική κλί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θύγραμμη αναζήτ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447920" y="2057400"/>
                <a:ext cx="3657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DFF-C488-43BD-9E23-3E579F0670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ράκτορες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αζήτησης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και άγνωστα περιβάλλον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αζήτη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εξεργασία δεδομένων πριν γίνει διαθέσιμο το σύνολό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πλοκή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eaving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ολογισμών και ενεργε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άλληλη για πεδί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υναμικ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μιδυναμικ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χαστικ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ι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lin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αζήτηση θα έπρεπε να καταστρώνει ένα εκθετικά μεγάλο πλάνο ενδεχομένων που να παίρνει υπόψη όλα όσα είναι δυνατό να συμβού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βλήματα εξερεύνησης: Οι καταστάσεις του κόσμου και τα αποτελέσματα των ενεργειών είναι άγνωστ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33B-FB8D-44D2-9EE4-C7D10CE5062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ροβλήματα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αναζήτηση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Ο πράκτορας πρέπει να εκτελέσει τις ενέργειες για να μάθει τα αποτελέσματά του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Γνώση πράκτορ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Ξέρει ποιες είναι οι ενέργειές τ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Γνωρίζει το κόστος κάθε βή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Μπορεί να καταλάβει εάν πέτυχε το στόχ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277200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C14-3080-4420-9874-7F88305A4D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ροβλήματα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αναζήτηση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δοχές (απλουστευτικές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υμάται τις καταστάσεις που επισκέφθηκ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ιτιοκρατικές ενέργει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νωρίζει μια παραδεκτή ευρετική συνάρτηση (π.χ. απόστασ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hat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όχος: Να φθάσει στον προορισμ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όστος: Τα βήματα που εκτέλεσ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αγωνιστικός λόγο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ratio)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αγματικό κόστος / βέλτιστο κόσ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903-37DF-428C-8896-D178884DCEF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διέξοδ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Εάν οι ενέργειες δεν αντιστρέφονται, ο πράκτορας μπορεί να παγιδευτε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Κανένας αλγόριθμος δεν μπορεί να αποφεύγει τα αδιέξοδα σε όλους τους χώρους καταστάσε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4290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9E8-3B85-432E-92F5-06B780F831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σφαλώς εξερευνήσιμοι χώρο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ό κάθε προσπελάσιμη κατάσταση είναι προσπελάσιμη κάποια κατάσταση στόχ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Ωστόσο το κόστος μπορεί να είναι μη-φραγμέν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267440" cy="32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DD6-2445-4D92-B481-76C10FC7461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ράκτορες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αζήτη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πειτα από κάθε ενέργεια, ένας πράκτορα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σλαμβάνει μια αντίληψη που του λέει σε ποια κατάσταση έχει φτάσε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ορεί να βελτιώσει το χάρτη του περιβάλλοντος που έχε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έκταση κόμβων με τοπική προτεραιότητ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ν μπορούν να χρησιμοποιηθούν αλγόριθμοι που εκτελούν άλματα (όπως π.χ. ο Α*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ξερεύνηση πρώτα κατά βάθ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όβλημα οι επιστροφές, αναστρέψιμες ενέργει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αναληπτική εκβάθυν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5AA-0BB4-4980-8A14-43E3BE213B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Τοπική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αζήτη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πική αναζήτηση αναρρίχησης λόφ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όβλημα με τα οροπέδια, δεν μπορούμε να εκτελέσουμε τυχαίες επανεκκινήσει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υχαίος περίπατο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andom wa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υχαία επιλογή βημάτων, αποφυγή επανάληψ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παρακάτω σχήμα, η επιστροφή προς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ίναι πάντα 2 φορές πιο πιθανή από την πορεία προς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 Εκθετικό κόστο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7162920" cy="13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70A-6AE8-4E1D-8B32-3F92E87A9D7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* πραγματικού χρόνου που μαθαίνε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1/3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arning real-time A*, LRTA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πράκτορας μεταβαίνει πάντα στην καλύτερη γειτονική κατάστα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άν πρόκειται για κατάσταση που επισκέπτεται ο πράκτορας για πρώτη φορά, αυτή βαθμολογείται με την ευρετική συνάρτηση, αλλιώς διατηρεί την όποια βαθμολογία τ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ισιοδοξία υπό αβεβαι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κατάσταση από την οποία έγινε η μετάβαση βαθμολογείται με το άθροισμα του κόστους μετάβασης και της βαθμολογίας της νέας κατάστασ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πράκτορας πρέπει να θυμάται τις νέες βαθμολογίες, γιατί αυτές δεν προκύπτουν πλέον από την ευρετική συνάρτη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A90-C2E2-4F33-81A8-6032AA403E0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ναζήτηση πρώτα στο καλύτερ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άβαση από τ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 Βουκουρέστ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899172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7FC-192C-4D18-9396-1226ACF746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* πραγματικού χρόνου που μαθαίνε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2/3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arning real-time A*, LRTA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6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214-DCC7-4034-BCFC-9D31C4EFB1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* πραγματικού χρόνου που μαθαίνε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3/3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arning real-time A*, LRTA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πλήρης για πεπερασμένα, ασφαλώς εξερευνήσιμα περιβάλλοντ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ν είναι πλήρης για άπειρους χώρους καταστάσε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λυπλοκότητα: Ο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 όπο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πλήθος των καταστάσε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1CB-7E2A-4FCF-8992-1B1D6904332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ναζήτηση πρώτα στο καλύτερ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848720" cy="522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37840" y="5562720"/>
            <a:ext cx="2727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διαδρομή που βρέθηκ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εν είναι η συντομότερ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585-1C2C-4960-A667-DE80633D8F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Αναζήτηση πρώτα στο καλύτερ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ρρεπής σε λανθασμένες εκτιμήσει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άβαση απ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si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ga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χει ομοιότητα με την αναζήτηση πρώτα κατά βάθο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ορεί να μπλέξει σε ατέρμονα κλαδι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ονική, χωρική πολυπλοκότητα χειρότερης περίπτωσης: Ο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F63-C172-4D07-99B6-A75C6E6B7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αζήτηση Α*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=g(n)+h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δεκτός ευρετικός μηχανισμό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(n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κάνει υπερκτιμήσει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αναζήτησ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χωρίς κλάδεμα επαναλαμβανόμενων καταστάσεων είναι βέλτιστη αν 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 είναι παραδεκτ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B05-C588-4566-BEFD-0570DE8E8E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ναζήτηση Α*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2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1193760"/>
            <a:ext cx="7238880" cy="566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DB1-3F1E-43B2-9A77-5AA89AF0FE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nis Refanidis</dc:creator>
  <dc:description/>
  <dc:language>en-US</dc:language>
  <cp:lastModifiedBy>Ioannis Refanidis</cp:lastModifiedBy>
  <dcterms:modified xsi:type="dcterms:W3CDTF">2005-02-20T18:43:17Z</dcterms:modified>
  <cp:revision>70</cp:revision>
  <dc:subject>Artificial Intelligence, A Modern Approach</dc:subject>
  <dc:title>Chapter 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